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95C7-F7C9-4C80-B556-869A0242C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516D-6078-46A9-B1F2-7E3CFA84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2BA9-4E9F-4A70-BC21-B455AD320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751F3-1F8F-4ACB-8E55-685C9D6B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9900-EF20-4BDD-8834-3B8549F3A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FC96F-817F-4042-8CA7-520E85238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F3B15-8172-4085-9E6A-9DEE8FC39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8C043-CD9C-4BB4-8555-C910E184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3AFE7-8A80-4F8C-870D-5DB986C8C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A3A7-BCB4-4B13-B5F9-AA377A0E3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40D57-557F-49CB-A656-893A0D66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8058-23C7-4DDE-B750-F7485269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A6928-AB82-47E5-BC7E-B7B3D482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1491-7E6B-4851-8080-7EF2C9A99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8832A-7F20-43CD-8B92-3D198E3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F8052-2367-40B7-B320-CD2C24244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C308-AD2A-4B25-AF98-0569E55D2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2C0A4-B9FC-49D3-8E09-4F333FF94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ACAA-5FEB-4814-921F-E16F1BFEE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4758-4FC4-4CFF-9FA6-E560D638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52200"/>
            <a:ext cx="863748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D9F-33EF-4F87-96AA-7D02AFB7A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864A-F79C-409A-B598-AD1EA9961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13956-A791-43E7-B45E-298A3A09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B7C11-AF60-4E2F-B73D-22957EFE0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ARTHSEPA" descr="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Arthsepa" descr="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52200"/>
            <a:ext cx="863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0341A-E2FA-448C-A03E-CFE9E03567D6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ARTBANNA" descr="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Arthsepa" descr="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7547C-7528-4591-BC63-0205E72A297F}" type="slidenum">
              <a:rPr b="0" lang="cs-CZ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6160" y="98820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         </a:t>
            </a:r>
            <a:r>
              <a:rPr b="0" lang="cs-CZ" sz="4400" spc="-1" strike="noStrike">
                <a:solidFill>
                  <a:srgbClr val="ffcc00"/>
                </a:solidFill>
                <a:latin typeface="Arial"/>
              </a:rPr>
              <a:t>Kulíšek A Očista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88" name="IMG_2949" descr=""/>
          <p:cNvPicPr/>
          <p:nvPr/>
        </p:nvPicPr>
        <p:blipFill>
          <a:blip r:embed="rId2"/>
          <a:stretch/>
        </p:blipFill>
        <p:spPr>
          <a:xfrm>
            <a:off x="1981080" y="190512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89" name="IMG_2950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2643120" cy="1981080"/>
          </a:xfrm>
          <a:prstGeom prst="rect">
            <a:avLst/>
          </a:prstGeom>
          <a:ln w="0">
            <a:noFill/>
          </a:ln>
        </p:spPr>
      </p:pic>
      <p:pic>
        <p:nvPicPr>
          <p:cNvPr id="90" name="IMG_2953" descr=""/>
          <p:cNvPicPr/>
          <p:nvPr/>
        </p:nvPicPr>
        <p:blipFill>
          <a:blip r:embed="rId4"/>
          <a:stretch/>
        </p:blipFill>
        <p:spPr>
          <a:xfrm>
            <a:off x="1981080" y="3886200"/>
            <a:ext cx="2643480" cy="1981080"/>
          </a:xfrm>
          <a:prstGeom prst="rect">
            <a:avLst/>
          </a:prstGeom>
          <a:ln w="0">
            <a:noFill/>
          </a:ln>
        </p:spPr>
      </p:pic>
      <p:pic>
        <p:nvPicPr>
          <p:cNvPr id="91" name="IMG_2951" descr=""/>
          <p:cNvPicPr/>
          <p:nvPr/>
        </p:nvPicPr>
        <p:blipFill>
          <a:blip r:embed="rId5"/>
          <a:stretch/>
        </p:blipFill>
        <p:spPr>
          <a:xfrm>
            <a:off x="4648320" y="3962520"/>
            <a:ext cx="2643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5T19:08:54Z</dcterms:created>
  <dc:creator>PC</dc:creator>
  <dc:description/>
  <dc:language>en-US</dc:language>
  <cp:lastModifiedBy>PC</cp:lastModifiedBy>
  <dcterms:modified xsi:type="dcterms:W3CDTF">2009-02-15T21:12:37Z</dcterms:modified>
  <cp:revision>1</cp:revision>
  <dc:subject/>
  <dc:title>         Kulíšek A Očista</dc:title>
</cp:coreProperties>
</file>