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743-356B-4DA2-AA0A-D82DCBEB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770-DC06-4721-99C1-5ED3752F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90A-70A4-4DB8-989E-D3FCA89C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E1A-BE0F-42D3-9CB1-19133E0E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5EE-D4FB-454E-A37B-B7154149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D06-390A-4E3B-BC87-1820D18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969-4102-4952-9584-94B7937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0C63-0B6B-42A8-93DB-2A2300F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32B-08B5-4D73-BDDB-97F3D81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C2D4-0ACC-4AF5-A1C6-B49BA44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16A0-856E-4A60-AEF3-FC587BE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AA4-4722-4494-B379-B79A683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91B7-A68D-404D-95AB-4A5956D1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F70-91CC-43B8-A6E3-29FAA23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89FA-0783-48EA-824E-95E9AA8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A0D-5A3D-4812-A276-77DB6A5B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5319-5256-497B-9E34-583F004F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3B6-653F-4B92-8206-F2CF5B6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98C-A075-43B3-931B-AD01F41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BF3-C5C7-4554-88DA-5E0B31A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8D7-B223-4675-9584-18EF6EEC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FFE-2E6E-4640-B195-00B5F1E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82C-27CD-4F63-BF9A-9830C69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B35-E6C6-479F-B31C-4160BF9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83F-7C5B-44EC-822F-09D6465662B6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D28D-E32F-41CD-8EA8-528FF5401439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9882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Kulíšek A Očis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IMG_2949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IMG_2950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IMG_2953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IMG_2951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26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08:54Z</dcterms:created>
  <dc:creator>PC</dc:creator>
  <dc:description/>
  <dc:language>en-US</dc:language>
  <cp:lastModifiedBy>PC</cp:lastModifiedBy>
  <dcterms:modified xsi:type="dcterms:W3CDTF">2009-02-15T21:12:37Z</dcterms:modified>
  <cp:revision>1</cp:revision>
  <dc:subject/>
  <dc:title>         Kulíšek A Očista</dc:title>
</cp:coreProperties>
</file>